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7EB-476A-45EF-9213-7DCB2491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887-4B8B-4DE5-99C2-E82CD79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068-10BA-4F5C-AC5D-AE74B60F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3B6-5F63-407D-A5F5-CA8F9AE8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45D-7C72-46D8-9B4D-64C913A9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5D3-79D4-4FDD-8136-8EF6F3CD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774-1FA4-4B76-850E-BAD46A13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E1E-1430-4C71-8E9E-E5C470D9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300-A216-494C-8452-E9D1B69A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DB4-3590-4AEB-814A-5B213A9C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BDA-0FDB-4DEB-9137-28B79927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BEF-40EA-4E5E-A752-68FA268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82E8-82E0-4A5A-A73A-6410A91F3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97000" cy="350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76320"/>
            <a:ext cx="518148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3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.  Find out what their names are and what they are do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2.  What is he doing and what is she do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3.  Add the numbers and write the correct number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.  Which words fit in the “number house”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5.  Answer, please and find the solu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6.  Who does what?  Read the text and fill out the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.  Draw a picture of the Lehmanns and write a corresponding text in your no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962520"/>
            <a:ext cx="868680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8.  Write an appropriate question or answ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.  What fits?  Put an “x” marking the correct pers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.  Which words from the list correspo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2.  Pantomime:  Act out words from the list.  Who guesses th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3.  Which words from the list correspond to the picture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4.  Write the appropriate words from the lis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5.  What is your opinion?  Decide and write an answer next to th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6.  Is that correct or incorr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6386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*Ü = Übung, which means exercise, not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Hart</cp:lastModifiedBy>
  <dcterms:modified xsi:type="dcterms:W3CDTF">2009-09-29T19:59:44Z</dcterms:modified>
  <cp:revision>8</cp:revision>
  <dc:subject/>
  <dc:title>Slide 1</dc:title>
</cp:coreProperties>
</file>